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62058"/>
        <c:axId val="29724387"/>
      </c:barChart>
      <c:catAx>
        <c:axId val="76562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24387"/>
        <c:crosses val="autoZero"/>
        <c:auto val="1"/>
        <c:lblAlgn val="ctr"/>
        <c:lblOffset val="100"/>
        <c:noMultiLvlLbl val="0"/>
      </c:catAx>
      <c:valAx>
        <c:axId val="29724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62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CEA-35A8-4BD9-A068-9C7721C9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EEE-BE3E-44F5-A6E4-00573C9E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ACE-9E2D-408C-A25D-DBD126CC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4E3-D1BD-49B1-BBDE-C9912054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A85-E51C-4725-979C-750BEAE4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886-1206-456D-9AB6-4A7576FE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4E4-D903-4A9F-87D6-65E40254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B19-348A-4467-8663-AAB7A4E3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604-1D93-4A72-BCBE-8C8CF1BF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A33-4CC1-47B2-BAB4-5972DE9A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66A-032C-40C0-B029-E633551C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EFC-A958-4673-9352-439F25E8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00D28-3D29-40FB-B88B-A0C7217FF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