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7726"/>
        <c:axId val="62928465"/>
      </c:barChart>
      <c:catAx>
        <c:axId val="23297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8465"/>
        <c:crosses val="autoZero"/>
        <c:auto val="1"/>
        <c:lblAlgn val="ctr"/>
        <c:lblOffset val="100"/>
        <c:noMultiLvlLbl val="0"/>
      </c:catAx>
      <c:valAx>
        <c:axId val="62928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7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8B0-524C-4F4A-A64F-CB743C60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1A7-7C88-45C2-9E54-3A92BE6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2A0-10D7-4904-9986-A630BEE6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339-7E46-4E0C-AE52-CD3939EA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4AD-5CC2-4F98-930A-588C4212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0D4-E0A8-441D-A2F6-093707AC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316-44F1-4B7A-9816-A330669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ECD-782E-44AE-98EF-97E9DCA5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6E6-8E72-4026-ABE3-8AA92D4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B7A-ABEB-43DD-A575-EEF0A7A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3D8-0F73-49B4-9C5F-4B636F6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F5F-8BFB-4052-81B0-321109D4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73924-FF8E-4D97-AAA1-BA309AF42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