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64258"/>
        <c:axId val="69094960"/>
      </c:barChart>
      <c:catAx>
        <c:axId val="43664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94960"/>
        <c:crosses val="autoZero"/>
        <c:auto val="1"/>
        <c:lblAlgn val="ctr"/>
        <c:lblOffset val="100"/>
        <c:noMultiLvlLbl val="0"/>
      </c:catAx>
      <c:valAx>
        <c:axId val="69094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64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22E-85B9-4DD9-83C3-D79A83AD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10E-BF41-416B-AF5B-08BE30DE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E33-9EB8-4AFB-9017-74E21D9F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C2AE-5582-44A3-BF67-7A1D7196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751-C618-4A53-9782-4FE37007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0DA-C57C-4B85-94F7-16441B0B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13C-6BCB-4AE0-9B96-9C092187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D3E-A141-4FAB-AFF0-188BE03F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C89-211B-4871-8CD5-76DA578A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896-44B5-4C60-B7C0-19D502A5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339-5CC8-4DC6-8873-C1645F99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F08E-739C-4D7B-8252-E487B953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863F9-A140-4B29-9820-12C22DB14F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