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40213"/>
        <c:axId val="46949955"/>
      </c:barChart>
      <c:catAx>
        <c:axId val="60540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49955"/>
        <c:crosses val="autoZero"/>
        <c:auto val="1"/>
        <c:lblAlgn val="ctr"/>
        <c:lblOffset val="100"/>
        <c:noMultiLvlLbl val="0"/>
      </c:catAx>
      <c:valAx>
        <c:axId val="46949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40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371-34F8-47F3-AF5C-BA16E917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8A7-6019-46D7-B7B6-5861D3B7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2F0-6E55-4126-9A5C-A4E5D4CA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556-253B-48B7-9648-93CD091D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A18-BF41-46F8-A3EF-8FD1135B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A8B-BFD5-414B-B80F-73EF956B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C38-5ED7-4FBD-8210-11E80446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592-1BA3-46B8-82A7-FB0F0C7F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B89-2D0C-4EB1-9340-60A98CD3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B54-B3C9-4DC1-A7F9-4CF074E2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0CC-74D4-47A1-ACD9-8A47635C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D5B-8487-4723-9B6C-FED079E1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45AF7-9630-4902-83B2-1F49E5CCD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