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340316"/>
        <c:axId val="9109152"/>
      </c:barChart>
      <c:catAx>
        <c:axId val="133403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09152"/>
        <c:crosses val="autoZero"/>
        <c:auto val="1"/>
        <c:lblAlgn val="ctr"/>
        <c:lblOffset val="100"/>
        <c:noMultiLvlLbl val="0"/>
      </c:catAx>
      <c:valAx>
        <c:axId val="91091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403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0ED2-3C5F-4B9B-B130-D6A0C6083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16DF-C3B6-49D6-84AA-8EF62E42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421B-FAF6-40C4-900C-BF86E03E4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15E9-0BB2-4A06-A69C-875F3C342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9D49-480C-46F8-B39B-853815D2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B8A5-8677-49B5-99B2-64D35CC5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5EE7-EE61-4379-B2DB-74128D37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D3A8-4CC3-44DA-8C11-A1F0AD07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3C42-B6CB-4440-AF8B-2999023D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0875-1C91-4DE4-8424-370A2C88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F48E-C05E-445F-A9EC-94A1BBBD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2075-83E9-44D4-8DF0-25709C8A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95630-598D-41A3-8B77-0245BF1016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