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81074"/>
        <c:axId val="75432891"/>
      </c:barChart>
      <c:catAx>
        <c:axId val="75810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432891"/>
        <c:crosses val="autoZero"/>
        <c:auto val="1"/>
        <c:lblAlgn val="ctr"/>
        <c:lblOffset val="100"/>
        <c:noMultiLvlLbl val="0"/>
      </c:catAx>
      <c:valAx>
        <c:axId val="754328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810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E306-5ABD-433B-B3BA-F68228B96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BBD2-A3E5-43B2-BA9D-597C37FC6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144E-CC5D-4F65-B89B-F0BB439D6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71D3-6F82-476A-8C59-FDB0D5778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7936-16C0-4383-AE05-E9C6E2E57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97AF-E698-456F-96AF-6AC7940FF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59BA-BE4E-48DF-B42E-A884F2747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D6BD-968A-490D-A931-DDB3D742C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EAAF-171C-4675-AEB6-70F105859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9AD8-5111-4BE5-ACDF-60C74317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65C0-AB02-49BA-A8E1-0B8E29DB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1848-9331-4751-B690-28D7F979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AA0EAE-849B-4944-BB58-92D993D6D15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