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11413"/>
        <c:axId val="39399397"/>
      </c:barChart>
      <c:catAx>
        <c:axId val="62711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99397"/>
        <c:crosses val="autoZero"/>
        <c:auto val="1"/>
        <c:lblAlgn val="ctr"/>
        <c:lblOffset val="100"/>
        <c:noMultiLvlLbl val="0"/>
      </c:catAx>
      <c:valAx>
        <c:axId val="39399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11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907-F296-4774-8D82-2DD9C222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00A-97C2-4C5E-94F0-C723EF94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F32-B955-4DB7-9943-C78BCD03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B17-7297-41FF-8DF9-441F7990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548-44C2-4A5C-9E0B-BC5382E0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197-137D-477B-AC9C-250B6FAD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EB7-5712-451D-A160-9DAA1EA0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7CD-2FD2-471E-9AE9-1EF0C664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18C-8690-4328-A704-B86AD428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4D3-51E1-4FDD-9046-3040273B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C42-3A16-4BF6-9539-F16DA5A5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8C9-0843-4E58-8363-EF5E2906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821F0-8228-48C6-AF6E-8C77217342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