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85180"/>
        <c:axId val="85383194"/>
      </c:barChart>
      <c:catAx>
        <c:axId val="97985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83194"/>
        <c:crosses val="autoZero"/>
        <c:auto val="1"/>
        <c:lblAlgn val="ctr"/>
        <c:lblOffset val="100"/>
        <c:noMultiLvlLbl val="0"/>
      </c:catAx>
      <c:valAx>
        <c:axId val="85383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85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437-B627-4F1A-A4E5-679337A0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280-FA8C-440D-935B-5047C6BF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0D4-FC70-4951-80EE-1D8CADEC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744-5545-4CCF-9C12-8C1380C1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244-6AE8-4DC4-998C-8ECD87DC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5BD-7DFB-48D8-92AD-97929324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0CC-17FD-465B-BD8A-63ABEA80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ED1-FA13-4004-989A-EBF24C3D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956-4B9F-4969-99D1-DE9CC223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414-ADD5-4198-9469-FEF4942C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D867-DA44-4319-9014-0BF579F5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174-7800-4C06-A8CA-1F3A5E65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3A449-CDEE-4078-87B5-DB45B6CE3A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