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150381"/>
        <c:axId val="38559528"/>
      </c:barChart>
      <c:catAx>
        <c:axId val="415038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559528"/>
        <c:crosses val="autoZero"/>
        <c:auto val="1"/>
        <c:lblAlgn val="ctr"/>
        <c:lblOffset val="100"/>
        <c:noMultiLvlLbl val="0"/>
      </c:catAx>
      <c:valAx>
        <c:axId val="385595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15038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0C4A-C444-4B92-B786-8B49CC19D5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B362D-1E19-473B-917A-CBCDC87B83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AC94-EF74-4C0C-A823-1BF32E5ED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DB09D-B754-4E4D-99C2-70F8DF355C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0CCDC-4285-418C-A5AA-BBD8EF3AF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BAC8-1250-4A03-B7C3-E80A45707B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8C6E-ADAB-49E7-A48C-115CDF0FE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49AD2-EB8B-41D3-94EF-AD968A3F7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3239C-4B2D-4684-9EA9-2D49F5A658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04B99-06BB-481F-BDA1-0DA753F1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0C6C7-D678-4208-BB70-73095531E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D8CD-4288-4FB8-B1FE-4BD68FD3E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941AE1-2A4D-45A9-9F5D-5586D48BBAC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