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034767"/>
        <c:axId val="63850876"/>
      </c:barChart>
      <c:catAx>
        <c:axId val="650347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50876"/>
        <c:crosses val="autoZero"/>
        <c:auto val="1"/>
        <c:lblAlgn val="ctr"/>
        <c:lblOffset val="100"/>
        <c:noMultiLvlLbl val="0"/>
      </c:catAx>
      <c:valAx>
        <c:axId val="638508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0347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786D-A51F-45FF-9996-2A75FBD69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1097-9721-4ED4-BB55-BDDFD09E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45CB-5E99-4664-B5BA-7DE1DAE1D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D896-BCC9-41DF-9460-8BD9FC8E4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BFEE-7D82-44BD-9C71-5FFE00E2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8AB4-3EA4-43B1-B76B-9624E9FC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0ADF-7303-49A0-944B-D6046546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F2B4-287F-41C4-A035-C7100FF3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0CB1-C7D5-4064-8304-D4339C26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CE67-384D-44C0-BF1B-075B47F9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7A38-E700-471D-B76E-2E21D8BE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5AF5-78A0-4266-9ACA-91F62121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650D38-DE33-4538-BF0D-FE2EA5E090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