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1381"/>
        <c:axId val="63116863"/>
      </c:barChart>
      <c:catAx>
        <c:axId val="9133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16863"/>
        <c:crosses val="autoZero"/>
        <c:auto val="1"/>
        <c:lblAlgn val="ctr"/>
        <c:lblOffset val="100"/>
        <c:noMultiLvlLbl val="0"/>
      </c:catAx>
      <c:valAx>
        <c:axId val="63116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926-C3FF-49B4-8B37-5F5C6DC3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F9A-9DFB-4500-8080-991FA60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5C4-591B-41B7-A3D4-4E8E19BF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B78-E4EB-45B3-9E55-B4E29BC8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ED5-C6B6-43C7-A945-529BE34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7B5-E14A-4067-9281-A7F9C0C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44E-30C8-4BFC-B8C2-6480879B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E2B-AF3E-4B0E-8BB9-2CDBC52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5C7-A875-4D26-A1B9-B04C5CC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055-248B-469E-8BE7-55149A5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5FB-B843-4A28-857E-AD1D8765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272-48F7-436A-AFB9-E729BBEB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61DD-D90D-40B8-B151-AC5E4752C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