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63299"/>
        <c:axId val="55961733"/>
      </c:barChart>
      <c:catAx>
        <c:axId val="126632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61733"/>
        <c:crosses val="autoZero"/>
        <c:auto val="1"/>
        <c:lblAlgn val="ctr"/>
        <c:lblOffset val="100"/>
        <c:noMultiLvlLbl val="0"/>
      </c:catAx>
      <c:valAx>
        <c:axId val="559617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632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6B2-7D03-469B-B919-E07ED18D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4CD-1F9E-4E73-A9F3-9414AF9F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899-09FD-4523-B7B2-2F3822B8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1D9-7347-4ECE-8585-A3175E7D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F72B-C7FC-444E-94D8-8DE0186E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8BFA-EB0C-41E2-8338-7F482E07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053-5FA7-4336-8CFA-EA363CEB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16A-F8EF-42E4-851C-2B406579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FB2A-F72E-4A01-91B6-980C8232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8E9-E518-43B5-95E7-FEA25041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B021-AF9F-41EB-A29F-796F7BA6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BA6F-6FE4-4250-A4CA-2873A576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A3810-B40F-4C3F-9473-84B095425E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