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88500"/>
        <c:axId val="51165204"/>
      </c:barChart>
      <c:catAx>
        <c:axId val="80088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65204"/>
        <c:crosses val="autoZero"/>
        <c:auto val="1"/>
        <c:lblAlgn val="ctr"/>
        <c:lblOffset val="100"/>
        <c:noMultiLvlLbl val="0"/>
      </c:catAx>
      <c:valAx>
        <c:axId val="51165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88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03B-BB03-4495-BB15-D59060EA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49D-465F-4A56-8392-B95A2E1B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5AD-2323-43E3-90FE-ADBF52A4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CB2-3B32-4A72-8FCC-4E397378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CD4-21E5-4A83-9D7F-036E771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039-5AE1-4FC2-B4B9-C4E55B97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A69-4379-4D4B-9EF8-871FC829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2D1-BB83-4673-AF7A-045CD04B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A2D-882B-40C7-BEBA-6A5DA315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7BF-27D4-4B32-8D8A-2024ACFA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439-DF1B-4232-824E-706894BC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0B9-EAF1-4C93-8D71-8B70E6A0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8139E-614B-4847-8650-E13530E0EA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