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07205"/>
        <c:axId val="33609646"/>
      </c:barChart>
      <c:catAx>
        <c:axId val="73807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9646"/>
        <c:crosses val="autoZero"/>
        <c:auto val="1"/>
        <c:lblAlgn val="ctr"/>
        <c:lblOffset val="100"/>
        <c:noMultiLvlLbl val="0"/>
      </c:catAx>
      <c:valAx>
        <c:axId val="33609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7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A52-0BF0-4850-84A8-A5E86D14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1BB-3603-4225-AFC5-C663DED3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434-97B1-43ED-BD80-5C970B7F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5F7-3435-40F3-A62E-2FBEC5CA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D6E-5776-47BE-9794-B4FDA260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54F-36D0-4B15-A0EA-63DC3EC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75E-CC39-470F-BCF0-2026C2A4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3AB-AE48-4BE2-9748-A113DD2E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6BC-7976-4E62-8044-C050D40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AFE-BFD6-4592-BB68-78B8687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4E6-8028-46DB-B0DF-973798F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C6F-4FFB-4745-82CC-4FEE1C2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5AED2-DC71-4C3F-B24C-9ED3BDDBB3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