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05369"/>
        <c:axId val="39426783"/>
      </c:barChart>
      <c:catAx>
        <c:axId val="14505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26783"/>
        <c:crosses val="autoZero"/>
        <c:auto val="1"/>
        <c:lblAlgn val="ctr"/>
        <c:lblOffset val="100"/>
        <c:noMultiLvlLbl val="0"/>
      </c:catAx>
      <c:valAx>
        <c:axId val="39426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05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8A3-B23A-40D1-9467-C1E723E0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AE3-1622-4EBC-B4D8-0A1D39F9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2D1-4641-4AA5-9199-AE7B7C28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7DE-2C69-464F-927E-E16B5463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E9C-CD6F-418A-9F1C-8FD49F9C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B18-F2B5-4A6C-88EE-83CA9036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DB3-DA91-4A53-9948-5167DB7C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92D-2521-4AD0-9B33-2C9A5E96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03A-4752-4BAA-9AFB-74225AF0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570-05BA-4490-8362-5553459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4D4-586A-4DFF-90A0-DE77D6D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517-83E7-4476-B247-7C2B9C6D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AB55E-5D27-4464-8C00-7D21EC317A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