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08027"/>
        <c:axId val="90806552"/>
      </c:barChart>
      <c:catAx>
        <c:axId val="63108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06552"/>
        <c:crosses val="autoZero"/>
        <c:auto val="1"/>
        <c:lblAlgn val="ctr"/>
        <c:lblOffset val="100"/>
        <c:noMultiLvlLbl val="0"/>
      </c:catAx>
      <c:valAx>
        <c:axId val="90806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08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37D-4D9C-4583-81F0-59AA22C6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540-4EDE-4C4F-9867-E7D9E822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35F-4BBB-4B60-AE85-C12B8181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230-FCDA-44BA-94F4-7DC8D623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6E7-99FD-4980-A15D-78304987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8BC-FA97-445A-BB1D-236B5FEA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C42-A2E1-4A51-863B-161B251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5BA-B157-41A8-B0E5-5BD9A162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625-E082-4509-926E-55B5CAAD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404-69CC-4E2A-93CB-218654F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02C-178C-408E-8EB8-D1702A77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90C-1322-4295-94A4-32DA726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EF379-E0C3-4754-89F2-C8380C843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