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26698"/>
        <c:axId val="12605290"/>
      </c:barChart>
      <c:catAx>
        <c:axId val="36026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05290"/>
        <c:crosses val="autoZero"/>
        <c:auto val="1"/>
        <c:lblAlgn val="ctr"/>
        <c:lblOffset val="100"/>
        <c:noMultiLvlLbl val="0"/>
      </c:catAx>
      <c:valAx>
        <c:axId val="12605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26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FC4-6E03-45C4-A396-E2DCFECB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485-47A8-4578-B081-ACFB39D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2E5-F7FF-4980-9648-A0AC9275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19B-A899-4EA4-A338-3836B1E5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93A-0C4D-45E2-B73C-7BB8D5D4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1D8-C840-4E36-A283-F3536370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413-9232-4816-BC9E-08E61B8F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56D-3942-4338-9F0C-ACE03F6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C4E-4853-4CB6-BC14-538D5B4A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243-44E3-45E2-9EDC-C2ADA5AC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999-CFA2-482A-A160-66DE53F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5F2-FD87-4174-999D-A5314D0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390F0-DD5A-498E-B061-1C92ADE81D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