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72766"/>
        <c:axId val="69618113"/>
      </c:barChart>
      <c:catAx>
        <c:axId val="828727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18113"/>
        <c:crosses val="autoZero"/>
        <c:auto val="1"/>
        <c:lblAlgn val="ctr"/>
        <c:lblOffset val="100"/>
        <c:noMultiLvlLbl val="0"/>
      </c:catAx>
      <c:valAx>
        <c:axId val="69618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727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2AA-E2D3-44E9-8F6C-FF291758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E2A-456A-4C66-AD16-6754AB6E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91D-421F-407B-9B6A-0ECC0AF2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E96-7B0B-444E-ADB6-F50BF924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8FC6-0B17-435E-9BF3-4AF916A2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AB97-E44A-4AEC-84F9-36343D6D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3268-D3F2-439F-A041-6BA58D4F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639-DC33-4BBA-98B8-B9F8EF28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24E-CCA2-4360-AEC7-57A642CA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5A61-D8FD-4BEC-A772-FF36863E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27C-95B2-4BC4-8B1F-EE04D003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F1A-4573-47E9-B5D6-348B0BB9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24B95-7BB5-4A25-A654-03EB321208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