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22665"/>
        <c:axId val="4591497"/>
      </c:barChart>
      <c:catAx>
        <c:axId val="83722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1497"/>
        <c:crosses val="autoZero"/>
        <c:auto val="1"/>
        <c:lblAlgn val="ctr"/>
        <c:lblOffset val="100"/>
        <c:noMultiLvlLbl val="0"/>
      </c:catAx>
      <c:valAx>
        <c:axId val="4591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22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DA7-8225-4E66-83EF-4F8F2478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D8C-1612-4B89-BCF4-E93B280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AFA-4973-4211-A755-2DB35640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251-1743-49F8-BB56-964246D7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4B5-CF6E-4671-960B-BE67541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E5D-42F9-44A7-96D8-FC4ACA5F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CF5-97BE-4DB9-8333-03240AB5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3AC-607A-482E-BBD4-EB0D8621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97D-FF55-4438-96AC-73C77043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DA2-1477-4F7B-ABCB-6FD4A13A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1BA-E39F-4C2B-8D14-23614895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12C-07F1-45A5-BA7E-715E78A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EA728-5712-4A95-91A0-3962FAE30E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