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23007"/>
        <c:axId val="77349342"/>
      </c:barChart>
      <c:catAx>
        <c:axId val="11823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49342"/>
        <c:crosses val="autoZero"/>
        <c:auto val="1"/>
        <c:lblAlgn val="ctr"/>
        <c:lblOffset val="100"/>
        <c:noMultiLvlLbl val="0"/>
      </c:catAx>
      <c:valAx>
        <c:axId val="77349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23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C4F-3A54-4788-9333-84723A2B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E9E-7D7A-42AF-913F-2E99709E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1EE-7285-4AE6-AE73-F236357C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C15-11B0-4C63-99C0-F6326BF4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008-033C-4946-9677-AC117615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A92-2044-4607-8B36-F3EDF5CA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7AB-9C5C-4CCE-B3F6-F82997EE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3F5-1CC5-4370-88BB-0019DEF4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0BC-091E-4151-A9F2-2F8F87CC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209-AE18-480C-9FD8-46737AD6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B54-B57C-47C4-9812-B0FE0567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3D0-9D81-46CB-AE5C-D3F51844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3BBA9-3347-437A-B881-AD9420B843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