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72062"/>
        <c:axId val="7742695"/>
      </c:barChart>
      <c:catAx>
        <c:axId val="32720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42695"/>
        <c:crosses val="autoZero"/>
        <c:auto val="1"/>
        <c:lblAlgn val="ctr"/>
        <c:lblOffset val="100"/>
        <c:noMultiLvlLbl val="0"/>
      </c:catAx>
      <c:valAx>
        <c:axId val="77426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720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132B-8223-4341-871D-7FD2C171E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B6CB-312B-40B6-A0AF-2DE364E1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C69D-BE35-4B51-A2E5-29E1C033B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9BB6-0F1E-4E05-8763-47510FC2F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B01B-1506-4F59-A69F-2514A021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765C-2381-45CB-93BE-55E7C4D7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E9F8-13AE-475F-BE86-3E44109D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BC90-5FCE-484F-9ECA-E2013B13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9EB1-616E-4C69-8A7A-A370F11E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2A84-96F5-4045-85F0-A6C9A8F3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C4A2-7E35-4F35-9867-6A95D9E5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645D-CC28-4D48-B53D-1A500113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46F4C-6992-47DC-9751-BCF4941AA9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