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B21B-FF67-41A8-9C65-6081559A6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86B5-F369-49C2-978E-4435B15BB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C897-AB2F-492C-B08B-034B14ED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B6C7-A7F4-4268-B584-480662420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3E23-685B-4CD0-A3A7-7AD9977A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5CA63-66F1-4D6D-B863-FD6B1E3F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957E9-304E-4FA8-959E-4539C907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D9873-F693-44D3-8A7C-EF885D85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F67F-D43A-4E0D-B67D-E9275CBB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E5B6-D159-43FA-85A9-666C2B31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8C3A-B443-4486-B4B3-B6B3A48C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113E-8C69-44A9-A713-630A798A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AF61-6E08-4CB0-BA69-958D6600D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4028-A4CB-4912-9222-BC6C97B8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D349-E97A-4BF3-BC63-CB63365D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4A1E-2998-4D9B-B2A1-6BC68BDC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65176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274640" y="355572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02852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65176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4274640" y="5837760"/>
            <a:ext cx="154548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76F39-C213-4D15-B93D-7FF9FC829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480060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4336-BC80-4C6C-AE49-8940B852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D9C6-3446-4B5F-AA75-C2D67BA86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AF62-5458-414E-A09B-8649B816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514440" y="121896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A0A4-9F85-4EE5-9DF7-060C337C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12A8-55B8-4476-8D1B-8574281D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436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88400" y="583776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EFF6-E71D-4EE7-9681-2D39EE00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852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8400" y="3555720"/>
            <a:ext cx="234252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8520" y="5837760"/>
            <a:ext cx="4800600" cy="208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7F6E-9D8F-4DB1-A7EA-876508DC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145480" y="6954120"/>
            <a:ext cx="1716120" cy="1708560"/>
            <a:chOff x="5145480" y="6954120"/>
            <a:chExt cx="1716120" cy="1708560"/>
          </a:xfrm>
        </p:grpSpPr>
        <p:sp>
          <p:nvSpPr>
            <p:cNvPr id="1" name=""/>
            <p:cNvSpPr/>
            <p:nvPr/>
          </p:nvSpPr>
          <p:spPr>
            <a:xfrm rot="20940000">
              <a:off x="5200200" y="789228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76828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1320000">
              <a:off x="6211440" y="700992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0940000">
              <a:off x="5296320" y="802584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825520" y="723852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1320000">
              <a:off x="6268320" y="72126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514440" y="254016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657080" y="850248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74480" y="8534160"/>
            <a:ext cx="21718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542880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F45D-B720-4D9F-8EBB-73ECB0CE87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" name=""/>
          <p:cNvGrpSpPr/>
          <p:nvPr/>
        </p:nvGrpSpPr>
        <p:grpSpPr>
          <a:xfrm>
            <a:off x="285840" y="1625760"/>
            <a:ext cx="6229080" cy="507600"/>
            <a:chOff x="285840" y="1625760"/>
            <a:chExt cx="6229080" cy="507600"/>
          </a:xfrm>
        </p:grpSpPr>
        <p:sp>
          <p:nvSpPr>
            <p:cNvPr id="12" name=""/>
            <p:cNvSpPr/>
            <p:nvPr/>
          </p:nvSpPr>
          <p:spPr>
            <a:xfrm>
              <a:off x="457200" y="193032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85840" y="1625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514440" y="3045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668160" y="8413920"/>
            <a:ext cx="920880" cy="507960"/>
          </a:xfrm>
          <a:prstGeom prst="roundRect">
            <a:avLst>
              <a:gd name="adj" fmla="val 49995"/>
            </a:avLst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>
            <a:hlinkClick r:id="" action="ppaction://hlinkshowjump?jump=previousslide"/>
          </p:cNvPr>
          <p:cNvSpPr/>
          <p:nvPr/>
        </p:nvSpPr>
        <p:spPr>
          <a:xfrm>
            <a:off x="58572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350" y="1"/>
                </a:moveTo>
                <a:lnTo>
                  <a:pt x="101" y="0"/>
                </a:lnTo>
                <a:lnTo>
                  <a:pt x="81" y="2"/>
                </a:lnTo>
                <a:lnTo>
                  <a:pt x="67" y="6"/>
                </a:lnTo>
                <a:lnTo>
                  <a:pt x="51" y="15"/>
                </a:lnTo>
                <a:lnTo>
                  <a:pt x="38" y="25"/>
                </a:lnTo>
                <a:lnTo>
                  <a:pt x="28" y="35"/>
                </a:lnTo>
                <a:lnTo>
                  <a:pt x="19" y="48"/>
                </a:lnTo>
                <a:lnTo>
                  <a:pt x="12" y="59"/>
                </a:lnTo>
                <a:lnTo>
                  <a:pt x="6" y="73"/>
                </a:lnTo>
                <a:lnTo>
                  <a:pt x="1" y="89"/>
                </a:lnTo>
                <a:lnTo>
                  <a:pt x="1" y="99"/>
                </a:lnTo>
                <a:lnTo>
                  <a:pt x="0" y="119"/>
                </a:lnTo>
                <a:lnTo>
                  <a:pt x="2" y="136"/>
                </a:lnTo>
                <a:lnTo>
                  <a:pt x="9" y="150"/>
                </a:lnTo>
                <a:lnTo>
                  <a:pt x="15" y="164"/>
                </a:lnTo>
                <a:lnTo>
                  <a:pt x="24" y="176"/>
                </a:lnTo>
                <a:lnTo>
                  <a:pt x="33" y="189"/>
                </a:lnTo>
                <a:lnTo>
                  <a:pt x="46" y="198"/>
                </a:lnTo>
                <a:lnTo>
                  <a:pt x="59" y="207"/>
                </a:lnTo>
                <a:lnTo>
                  <a:pt x="72" y="212"/>
                </a:lnTo>
                <a:lnTo>
                  <a:pt x="90" y="218"/>
                </a:lnTo>
                <a:lnTo>
                  <a:pt x="350" y="218"/>
                </a:lnTo>
                <a:lnTo>
                  <a:pt x="35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>
            <a:hlinkClick r:id="" action="ppaction://hlinkshowjump?jump=nextslide"/>
          </p:cNvPr>
          <p:cNvSpPr/>
          <p:nvPr/>
        </p:nvSpPr>
        <p:spPr>
          <a:xfrm>
            <a:off x="1085760" y="8555040"/>
            <a:ext cx="417600" cy="463680"/>
          </a:xfrm>
          <a:custGeom>
            <a:avLst/>
            <a:gdLst/>
            <a:ahLst/>
            <a:rect l="l" t="t" r="r" b="b"/>
            <a:pathLst>
              <a:path w="351" h="219">
                <a:moveTo>
                  <a:pt x="0" y="1"/>
                </a:moveTo>
                <a:lnTo>
                  <a:pt x="249" y="0"/>
                </a:lnTo>
                <a:lnTo>
                  <a:pt x="268" y="3"/>
                </a:lnTo>
                <a:lnTo>
                  <a:pt x="283" y="6"/>
                </a:lnTo>
                <a:lnTo>
                  <a:pt x="298" y="16"/>
                </a:lnTo>
                <a:lnTo>
                  <a:pt x="311" y="26"/>
                </a:lnTo>
                <a:lnTo>
                  <a:pt x="321" y="35"/>
                </a:lnTo>
                <a:lnTo>
                  <a:pt x="331" y="48"/>
                </a:lnTo>
                <a:lnTo>
                  <a:pt x="337" y="60"/>
                </a:lnTo>
                <a:lnTo>
                  <a:pt x="344" y="74"/>
                </a:lnTo>
                <a:lnTo>
                  <a:pt x="349" y="90"/>
                </a:lnTo>
                <a:lnTo>
                  <a:pt x="349" y="100"/>
                </a:lnTo>
                <a:lnTo>
                  <a:pt x="350" y="119"/>
                </a:lnTo>
                <a:lnTo>
                  <a:pt x="347" y="136"/>
                </a:lnTo>
                <a:lnTo>
                  <a:pt x="341" y="151"/>
                </a:lnTo>
                <a:lnTo>
                  <a:pt x="334" y="165"/>
                </a:lnTo>
                <a:lnTo>
                  <a:pt x="325" y="176"/>
                </a:lnTo>
                <a:lnTo>
                  <a:pt x="316" y="189"/>
                </a:lnTo>
                <a:lnTo>
                  <a:pt x="303" y="199"/>
                </a:lnTo>
                <a:lnTo>
                  <a:pt x="290" y="208"/>
                </a:lnTo>
                <a:lnTo>
                  <a:pt x="277" y="213"/>
                </a:lnTo>
                <a:lnTo>
                  <a:pt x="259" y="218"/>
                </a:lnTo>
                <a:lnTo>
                  <a:pt x="0" y="218"/>
                </a:lnTo>
                <a:lnTo>
                  <a:pt x="0" y="1"/>
                </a:lnTo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2e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 rot="1320000">
            <a:off x="298440" y="731880"/>
            <a:ext cx="662040" cy="11779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20940000">
            <a:off x="1371240" y="406080"/>
            <a:ext cx="343080" cy="60948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7320" y="228600"/>
            <a:ext cx="314280" cy="558720"/>
          </a:xfrm>
          <a:prstGeom prst="star5">
            <a:avLst/>
          </a:prstGeom>
          <a:gradFill rotWithShape="0">
            <a:gsLst>
              <a:gs pos="0">
                <a:srgbClr val="0d1526"/>
              </a:gs>
              <a:gs pos="100000">
                <a:srgbClr val="1e2e5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20940000">
            <a:off x="1314000" y="304560"/>
            <a:ext cx="343080" cy="60948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00080" y="25560"/>
            <a:ext cx="314640" cy="5587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145480" y="6852600"/>
            <a:ext cx="1716120" cy="1708560"/>
            <a:chOff x="5145480" y="6852600"/>
            <a:chExt cx="1716120" cy="1708560"/>
          </a:xfrm>
        </p:grpSpPr>
        <p:sp>
          <p:nvSpPr>
            <p:cNvPr id="60" name=""/>
            <p:cNvSpPr/>
            <p:nvPr/>
          </p:nvSpPr>
          <p:spPr>
            <a:xfrm rot="20940000">
              <a:off x="5200200" y="779076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768280" y="703584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320000">
              <a:off x="6211080" y="6908400"/>
              <a:ext cx="457200" cy="812880"/>
            </a:xfrm>
            <a:prstGeom prst="star5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rot="20940000">
              <a:off x="5296320" y="7924320"/>
              <a:ext cx="342720" cy="60948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825520" y="7137360"/>
              <a:ext cx="314280" cy="55836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320000">
              <a:off x="6268680" y="7111800"/>
              <a:ext cx="457200" cy="812520"/>
            </a:xfrm>
            <a:prstGeom prst="star5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 rot="1320000">
            <a:off x="127080" y="325440"/>
            <a:ext cx="662040" cy="1177920"/>
          </a:xfrm>
          <a:prstGeom prst="star5">
            <a:avLst/>
          </a:prstGeom>
          <a:gradFill rotWithShape="0">
            <a:gsLst>
              <a:gs pos="0">
                <a:srgbClr val="eaeaea"/>
              </a:gs>
              <a:gs pos="100000">
                <a:srgbClr val="6b6b6b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dt" idx="4"/>
          </p:nvPr>
        </p:nvSpPr>
        <p:spPr>
          <a:xfrm>
            <a:off x="56880" y="843084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ftr" idx="5"/>
          </p:nvPr>
        </p:nvSpPr>
        <p:spPr>
          <a:xfrm>
            <a:off x="2343240" y="843264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sldNum" idx="6"/>
          </p:nvPr>
        </p:nvSpPr>
        <p:spPr>
          <a:xfrm>
            <a:off x="5372280" y="843264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E389-8141-43C1-890D-877FD078EF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title"/>
          </p:nvPr>
        </p:nvSpPr>
        <p:spPr>
          <a:xfrm>
            <a:off x="514440" y="12189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43080" y="2743200"/>
            <a:ext cx="6229080" cy="507600"/>
            <a:chOff x="343080" y="2743200"/>
            <a:chExt cx="6229080" cy="507600"/>
          </a:xfrm>
        </p:grpSpPr>
        <p:sp>
          <p:nvSpPr>
            <p:cNvPr id="72" name=""/>
            <p:cNvSpPr/>
            <p:nvPr/>
          </p:nvSpPr>
          <p:spPr>
            <a:xfrm>
              <a:off x="514440" y="304776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6b6b6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3080" y="2743200"/>
              <a:ext cx="6057720" cy="203040"/>
            </a:xfrm>
            <a:prstGeom prst="rect">
              <a:avLst/>
            </a:prstGeom>
            <a:gradFill rotWithShape="0">
              <a:gsLst>
                <a:gs pos="0">
                  <a:srgbClr val="0d1526"/>
                </a:gs>
                <a:gs pos="100000">
                  <a:srgbClr val="1e2e5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59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5829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ab235a"/>
                </a:solidFill>
                <a:latin typeface="Curlz MT"/>
              </a:rPr>
              <a:t>Employee of the Year - 2003</a:t>
            </a:r>
            <a:endParaRPr b="1" lang="en-US" sz="3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914040" y="3429000"/>
            <a:ext cx="5715000" cy="436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EOY must have been employed for a minimum of 6 month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Senior Staff and/or Directors are not eligi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Please submit your selection to Jill Brown by Friday, January 16, 2004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ab235a"/>
                </a:solidFill>
                <a:latin typeface="Curlz MT"/>
              </a:rPr>
              <a:t>Corpor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EOY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Position:</a:t>
            </a:r>
            <a:r>
              <a:rPr b="1" lang="en-US" sz="2000" spc="-1" strike="noStrike">
                <a:solidFill>
                  <a:srgbClr val="d71132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b235a"/>
                </a:solidFill>
                <a:latin typeface="Curlz MT"/>
              </a:rPr>
              <a:t>Why chosen: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685800" y="350532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362320" y="609480"/>
            <a:ext cx="2354040" cy="119556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rId3" action="ppaction://hlinksldjump"/>
          </p:cNvPr>
          <p:cNvSpPr/>
          <p:nvPr/>
        </p:nvSpPr>
        <p:spPr>
          <a:xfrm>
            <a:off x="685800" y="3886200"/>
            <a:ext cx="152280" cy="15228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>
            <a:hlinkClick r:id="rId4" action="ppaction://hlinksldjump"/>
          </p:cNvPr>
          <p:cNvSpPr/>
          <p:nvPr/>
        </p:nvSpPr>
        <p:spPr>
          <a:xfrm>
            <a:off x="685800" y="4267080"/>
            <a:ext cx="152280" cy="152640"/>
          </a:xfrm>
          <a:prstGeom prst="ellipse">
            <a:avLst/>
          </a:prstGeom>
          <a:solidFill>
            <a:srgbClr val="ab23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6T22:18:03Z</dcterms:created>
  <dc:creator>Sport &amp; Health</dc:creator>
  <dc:description/>
  <dc:language>en-US</dc:language>
  <cp:lastModifiedBy>Sport &amp; Health</cp:lastModifiedBy>
  <cp:lastPrinted>2003-01-10T20:49:36Z</cp:lastPrinted>
  <dcterms:modified xsi:type="dcterms:W3CDTF">2004-01-08T20:48:06Z</dcterms:modified>
  <cp:revision>37</cp:revision>
  <dc:subject/>
  <dc:title>Employee of the Year - 2002</dc:title>
</cp:coreProperties>
</file>