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4821930"/>
        <c:axId val="1725404"/>
      </c:barChart>
      <c:catAx>
        <c:axId val="548219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25404"/>
        <c:crosses val="autoZero"/>
        <c:auto val="1"/>
        <c:lblAlgn val="ctr"/>
        <c:lblOffset val="100"/>
        <c:noMultiLvlLbl val="0"/>
      </c:catAx>
      <c:valAx>
        <c:axId val="17254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48219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D5641-589B-4665-A544-E66FFAEF0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45F0-6E30-4920-9F43-59600B5DC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00E6-528B-4858-8DBA-01E47C478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62DC-91FB-461F-83B7-03EFCADCB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99D4E-2BF5-416A-98EF-47082D66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D7125-3790-4587-AF49-916FE9056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29672-A7B1-49EE-9BD9-C7D7A935A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8682E-014C-4D32-BB25-BBB8E88B3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7254-BF75-4B53-8BFB-0DC31BD93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48BC-2A17-4906-9F26-CA97C396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4D60-AC02-424B-BF20-117232A30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2398-527F-4A0E-B802-F99DE17A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056279-6F47-40BF-A8AF-FEF9BAEDE3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