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4833AE3-4A3F-4DF0-9F8E-9384112CFE5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1CC2C77F-ADA3-466E-80A5-075E5DB836E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F946F051-852C-4AC1-9273-E6C8396E44B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868E8B8E-29C2-464A-AA1C-61EA7548977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3E92064D-31C8-4D77-8F02-423A3BCB7CF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513CAF-D071-4BBD-AE29-C11F8B246B7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81C77C45-7F31-4BC2-859D-1AC1B0B32DD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C6D8B9B1-A4AE-420C-BF84-BA37487AFEE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6929CEC3-6B55-4880-8665-16232A1C44E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A657F765-81FB-4736-A0DC-1BA7211436A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A74DC1D6-EDD4-46A4-844A-CC655C50FB4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F2ADEC2-7795-446D-B4EC-5D2B0296B0C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A1D75A-F449-45B3-9069-F015F184F52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F83D5AC-45C9-487A-AB27-962CCC9D5336}"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2F677A7-C225-40C5-9C51-6175E72E634F}"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4F13045-BC52-445D-AACC-CCEB802B39B6}"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DA368A-ED85-4A9B-8769-76A3B3E5AADA}"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B1A193-E1FF-4713-B76B-35CF1714BB0C}"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0811C3-185C-4FF7-9B0A-C059F173B971}"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EA4D055-0901-4EBE-BFB2-32A2EF4D3144}"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F8E7B2-A463-4097-8FF1-BEDD7A3FA76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F3F2AC-B4AE-4447-B125-71B8BAE1118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47F29AE-144D-4A21-988D-236252313E6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9902F6-5132-4EA7-A48B-46017444874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670DFA0-DCC7-4AB3-9845-BB4E392928A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F686947-A06E-42E7-B1E2-422A52A6D5A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DE8FA10-F8B9-4328-886E-34A76214E52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78EA5D-60A2-4C10-A1C8-A9F997CC492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615F973-45A3-4DA0-BA7E-17184F4F5BB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DEE63E4-48D5-4B95-BE96-63627441AFE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8BA43D-D265-4449-A92C-6AE295BC711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57F457-0378-41C6-9191-F00E3C86F14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D097B9-94F7-45C9-8D65-030144EDD09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26BFB2-0306-444A-A598-F1B00B4753D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C19CE5-BC78-4848-8E6B-2E5B755B9B7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6F446F3-38B4-401C-B9CB-F2D9FC97539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053A6BE-E223-4C52-9540-28D2A61A29A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D57AD2-9098-4F96-A7B6-FFD604CC422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E1805B4-4D65-47A7-91F4-8B4B09256C2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44A91EE-D46A-4EC7-9EC8-8B0E2D13F56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43917F-8C18-43C4-A8ED-24CA04F105A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4EAAA97-535D-4078-9E65-7FCABCC140A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6618BC-B45E-4501-A94C-C8D1968198D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4F4F323-A806-431D-8053-AAA807F4AD3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996CDE8-96B6-4C64-8940-5BDF658ADD9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2A29C7F-C06C-4235-82E6-E7A4754306E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7BD65A-7F06-4BB0-9655-5BE0F2B8185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32401CA-A637-44D0-B4C6-2B21616981C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8F0C6E-9E09-4D3A-B37B-774F8E0E035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A8993A-02FB-440B-9FF7-9B41A35C74D5}"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2281D3FE-CCA6-42CA-BFD3-5CDF21C546FF}"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D5C451-F8CF-49AD-8FED-C09F1BAC4A01}"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0D0D39-1654-45BE-B97C-3B3276F2C5BA}"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5740D9-56A6-4467-8CB8-A4AF5B28766C}"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B7D376-38DB-485F-A2A6-66D690FBF589}"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4BBCDC1-7116-400C-8C94-B45AD96CA41C}"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D78D12-C7A3-4C66-9512-A2935ACD3A15}"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C9E130-E5A8-4734-B923-50907B93BA48}"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108B06B-E1AD-4464-B55A-C9BFD9A3ECCA}"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E986EE-0BF9-487A-8708-3DB654AF39B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A0588E6F-CC1E-475E-A37E-27EA476D4CD8}"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0BD4AB8-57FA-4C68-A571-D991A3E8BCAD}"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2CC8F4D-9FA9-4142-A76D-072B908BFF04}"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D3D819-40B4-46DC-9CBA-DEDD9EFCEF2B}"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AD97FA-A77D-4C3B-B495-2B4EE8185F21}"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543E14B-4555-4C57-B3C1-EEE567AAEC8D}"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ED9E65-486A-4C23-9F5B-3C76BE2239E8}"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0CAB53-9AA8-4D04-B913-243E270E655E}"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5F7A7A3-D507-4A46-B1CF-9D7873AD5DEE}"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ED9A19-3192-4A2C-A2E6-6F1BACCB6AB5}"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D28054-BDE7-412A-9DBE-B2FBBC317BE5}"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50078A3F-C455-43ED-929A-3102CCB4866F}"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FD3FD5A-3757-4451-BDB7-5E81C2A95CB2}"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E28E0D-D2F6-4EC8-8378-810EB4E5EEFB}"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BCA005-0F1D-47B6-9680-F459076C5F21}"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39FCADA-39B0-4867-90CD-11A7076AA7A6}"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4E4C7D5-8741-4958-A3FF-637AD9DEF3F2}"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6AA075-D623-4BDB-A30E-766340586DAF}"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090ABA-50C7-4B13-9F7E-5BF87A6AF448}"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BC47906-BFDD-4A12-8429-C76F768963FC}"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A32A304-4027-4043-A712-0E0E8898DC97}"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85A868-D8F3-4A48-AD57-269AEBD7539C}"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84EEC6-1BAE-48C1-9471-CA4E9CF155CF}"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8C5174A-BA12-4D95-8985-0EC06322C01E}"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80FFCF-37E1-4D5F-A42F-511AEA8C36E7}"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352452B-BA9A-42AC-86D6-E56CC8DF7231}"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0681C84-47E9-4F61-930B-F45F74D60C8F}"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8ECE8D3-B41A-4194-A7EC-829F4FE6BCEC}"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9D69140-2B40-470E-914A-43A24B9F58AB}"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C4C2AC-C73E-4195-B7BD-A4F2DD308847}"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0AE9FE5-2B7A-4A48-9424-835D1229547B}"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270A9A-7B07-4075-BBB5-479EC604F236}"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03615D8-15AE-465F-BED9-19CAE1FAE908}"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4CDB0E-5A12-4BFE-A863-5F6F06995229}"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26972A-D0DC-4A12-BB55-5D67AE877BF9}"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8DEF84-8FD5-40EA-98AE-E2687B92E300}"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5A22D0-A57D-406E-83EF-CFDA8DDFFE57}"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90A2212-6DD8-4149-8408-69740590006A}"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FCABA4-DB74-4CE7-A2DA-3F8CC024B1FD}"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A26926-3F6E-441E-B859-81FC4279CC54}"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2892E80-ED46-435C-96EB-77D78BC2E567}"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8C7C3E-912C-4F0D-9A45-3204D25617D0}"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D455D2E-C1CF-4BA8-B2EE-49B11050BAFC}"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541571-023A-474F-9A16-432A59CC53EF}"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BCF49E0-CBEB-4FD7-9DBF-FBFCE3052CEB}"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EFF5EB-2D64-4DBB-8868-5DB63AA4F6D1}"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8725FC-8AE9-406D-AE65-46BA00EBC7BC}"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60ACDAD-ACF1-484C-B75A-6F8D7BE25B57}"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36E518-7EE8-46C7-B634-117E418FB791}"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0F9597D-97E6-45CC-A922-523F26E13B16}"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46F0A3-E719-4D2A-8150-3C8D815D8B97}"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5497C91-FB55-4DBB-889A-DB36AE8B650B}"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09069E2-0EA6-4143-9047-E5A7107562B8}"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7AAAB5E-761F-490E-B369-2B626F48EEF2}"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88936BB-54FE-41AE-9172-489735581D87}"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0AF118-9B1C-451D-A17D-15C2DB44BB61}"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0156D04-8933-4572-AE9E-A12F5CE53EE3}"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